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40B-DD39-41A3-9224-F7DE507A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AEA-EE33-457A-9073-3AB5B054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AD57-0DCB-472D-B43E-0124F9EE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D094-3753-4A6D-B975-A4A963FB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496-B09F-4916-9683-4D2EA56F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DDA-D57B-473D-ABA8-2495AB55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22B-B894-4AE2-83C2-4A7D2608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C55-62E4-4C82-A5AC-D0A0D3A8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82E-E36C-4151-8E4B-9933154F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BEE-87DC-4BC4-9C68-613133D6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F06-5AEC-403C-B544-9A92D14A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560-8BD9-46FE-A66E-F858CF07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FD21-B762-415B-8769-B65300564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0"/>
            <a:ext cx="2895480" cy="10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cc"/>
                </a:solidFill>
                <a:latin typeface="Arial"/>
              </a:rPr>
              <a:t>قالَ الربُ</a:t>
            </a:r>
            <a:r>
              <a:rPr b="1" i="1" lang="en-US" sz="5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ar-SA" sz="5400" spc="-1" strike="noStrike">
                <a:solidFill>
                  <a:srgbClr val="ffffcc"/>
                </a:solidFill>
                <a:latin typeface="Arial"/>
              </a:rPr>
              <a:t> أنا الكرمه   أنتم أغصانُ الكرم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cc"/>
                </a:solidFill>
                <a:latin typeface="Arial"/>
              </a:rPr>
              <a:t>كالأغصانِ اثبتوا فيَّ   تأتوا بثماٍر جمَّه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0"/>
            <a:ext cx="2743200" cy="13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00"/>
                </a:solidFill>
                <a:latin typeface="Arial"/>
              </a:rPr>
              <a:t>مثلَ الهائمِ في الصحراء   يبحثُ عن قطراتِ الم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00"/>
                </a:solidFill>
                <a:latin typeface="Arial"/>
              </a:rPr>
              <a:t>هكذا يلْهَفُ قلبي إليكْ   أنتَ الهدايةُ أنت الرجاء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0"/>
            <a:ext cx="3048120" cy="10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cc"/>
                </a:solidFill>
                <a:latin typeface="Arial"/>
              </a:rPr>
              <a:t>مَن يأكل من خُبزِ الله   </a:t>
            </a:r>
            <a:r>
              <a:rPr b="1" i="1" lang="en-US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ar-SA" sz="4800" spc="-1" strike="noStrike">
                <a:solidFill>
                  <a:srgbClr val="ffffcc"/>
                </a:solidFill>
                <a:latin typeface="Arial"/>
              </a:rPr>
              <a:t> مَن يشرب من خمرِ ال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cc"/>
                </a:solidFill>
                <a:latin typeface="Arial"/>
              </a:rPr>
              <a:t>يرِثِ  الحياةَ الأبدية     يُعطى السعادةَ في دُنيا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12:22:58Z</dcterms:created>
  <dc:creator>HANI SAFI</dc:creator>
  <dc:description/>
  <dc:language>en-US</dc:language>
  <cp:lastModifiedBy>HANI SAFI</cp:lastModifiedBy>
  <dcterms:modified xsi:type="dcterms:W3CDTF">2003-05-18T13:01:41Z</dcterms:modified>
  <cp:revision>1</cp:revision>
  <dc:subject/>
  <dc:title>Slide 1</dc:title>
</cp:coreProperties>
</file>